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0A4-48FE-41DE-900D-DD2AE7F6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125-7301-4E0B-8911-04C62E4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97508-2FEC-4876-9835-125BE70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84F2-BFC3-4FA7-8213-B47826C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BB74-DF09-48E5-9A9E-179F9F5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F11C7-0F3F-4EEF-A0F0-E962964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32596-C3AB-46DC-B977-3146E44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7B9A-C222-41B8-90EE-3DB0BFB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DC96-4347-4568-AFF6-A0AD0FC4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96E34-D60F-43BB-BDA4-A0D695BB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7F38A-7B10-40B1-97BD-22038729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8E26-2965-4343-9D2A-8CE4703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8FA-B11A-49B3-A5EB-D781C4B2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EA344-DE2D-4AF3-9E7C-79F83DE8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B04CF-79EB-4F3E-8BFC-19FCDBE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D4DE6-14CC-437F-BECC-7FA3D00B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94091-99BC-4534-AFC9-552FFF0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7E271-349A-4625-93CD-6403521C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7AF41-E072-4F8A-9EE8-0B0B8EE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12A8-1188-4E60-A690-715473C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8AB4E-12E3-4621-9528-5D9786D1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BCF69-BDD6-46C5-A385-4C9D5BF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EC6EB-9460-4464-8CE9-43DCA5B9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144-D1A1-4BD9-BBFC-B9A4F6E4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97066-35F9-46F9-9945-0F7A1F01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38AC-9B16-4E93-AD91-3F07382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1901D-D2B7-4FBE-853F-5D357BC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22E2C-D528-467F-9153-098F0F5C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FC23-53DA-466C-9860-17134679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BC55-DD95-4E4E-9A13-64487448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D1882-BE19-4093-9A67-227DC39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1FA71-B665-4695-B8D4-8E35A55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36C9-2CB1-4AA2-8D9C-5ADC054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8E86-485B-4632-AE5B-1351575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DF7-741B-4460-A3EB-37473B4E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0EF97-8BAF-47EA-A7D4-1082698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A1EE-A417-4D0A-9996-B02E4DF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9732-3D62-4B30-9EF5-3C616E10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E3AE9-74D6-4020-A84F-B23782F4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5C706-48DC-4058-9442-79D8260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F0BC6-D95C-49D6-B30F-8AAC9A5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8CEF-D9CC-45FB-8DAB-BE47C14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BF0EB-DBFB-417D-A1BA-7ABA4F3C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F65A-8600-4B8D-B6D5-78E3BA9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1FD3-B5BA-40D4-A010-A316D94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518D-3D6D-43F3-8795-1DEAF6B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D57F9-0AA8-42C3-B29A-BFB1146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34C3A-FE1A-48E1-968C-BC9D24E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1EF34-1AA6-4AF4-A512-BB165C86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367F9-49DA-4E8F-9073-12545B91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C5899-0F87-42B9-BB42-390485F8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1DE8E-3F6E-471F-AE5B-AE33214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D048A-A995-46DD-9F42-73D52EB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06BA0-8436-4EA6-93A2-D107B0C0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EA150-EEA7-4255-868E-DD113AE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02238-9AE3-4676-B5D5-64838DD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79C4-D7B3-423B-953E-80DD0F43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B558E-92EF-48BB-A9CC-3C491D80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BF166-BD58-4262-8EE5-1B563E5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55A4E-02FD-4AF6-80B4-849FB1D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ACAD2-5CE9-442F-968D-8F0B070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BF0C6-BA7D-4793-AB6B-E522877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65BD9-2379-4C8E-AB70-B95E80A2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874D-1A2F-427C-9F33-B4366DC5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D83A8-18B4-4BA9-A4BF-6ED248C9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5EEBA-6F9E-4E87-A565-9FD3C3C4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BE2E4-07A1-4E53-A217-38E0814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78F-FF4C-4ABA-B414-724F43AC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25473-58BB-4F4E-BB33-3286B69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AD76D-CC66-4A62-B3B7-7963379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B8D0D-8D45-4790-92A5-0058D38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C4BBC-C248-41F5-B3A8-7A09DBB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7A993-B0F7-49D0-A15C-026B55F3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EB947-5129-4562-8FDF-EE7E094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E91EA-40CA-498F-8F26-A74C0E05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0FAA0-A035-4D55-BC3E-13C3AE3E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3DB7D-DC6C-4B28-969D-55DF26CE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52FE9-DEAB-44CC-AE47-F9A82C3D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2B6-301F-4A82-9F10-16387D5D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27C95-21DF-49E6-896E-BAF5BC5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8DD60-F575-4907-9DE0-052121F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3C706-D346-4731-9391-6F0FD9D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65843-F8D4-469B-9D46-54865EB4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EC8C0-75BC-4764-9A88-754A6BB9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71F18-585F-4BA9-A9C7-979A879F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3ABFB-D759-421A-8E91-505A472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01A56-DEA3-409C-AE5B-C40FA99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4C510-688B-430D-8A74-28BDFC6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1A786-D614-4AB8-90DB-4CDB8245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5ED5-50F0-4EB3-AC54-EC00E18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1ECA4-F640-48D9-BB57-AC0365ED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29C12-6898-41BD-809E-22D15507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B35C2-0EE8-4B9F-BD00-BDA2F031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214EF-D514-4716-BDBF-27B9734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A1CEE-33E8-4226-AC56-3658959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B8DBD-3F40-4E58-BD3D-FEEBAEBA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F3BCE-62EE-4F5E-92C4-6D9078BF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C5421-22CC-4585-8771-970D401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CD1D6-BE89-4A8F-97E1-C2BD420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8E20E-4438-4D71-B72E-6A7A0F61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A37-4D9C-4EB2-A2BA-23AB03C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BC0EB-2642-4AF8-A9D5-4161A09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F4A75-F0A8-4938-AE4D-DC3FAA09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BCFE3-E2AF-413D-92D5-2BD420AD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D3BD1-BB84-45AF-98AB-ABF192E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635E7-3A44-4AA2-9F68-C5CB97A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4DA42-8E89-4023-BA7C-BB42DD8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0186D-D552-4C9B-BFFB-F9B0387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5ADE9-5664-4C6B-9BE2-331FD53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04164-19FC-4E26-A64C-BFE8C6F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47DCD-745B-45DB-9936-C091119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874-E0A5-4538-8B03-E158E88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E423-C82C-46D8-8670-46D6582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DC856-9A68-495B-BAFF-F2AF737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B927B-73DC-4EC9-8AD2-9272B6F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C527D-C0DC-48F0-9CD7-66E363E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CD478-D46A-44A2-8148-0F1F83B8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2C5F4-9F57-4163-953A-AE89D54A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04991-0718-4789-9A0D-36C7B4EF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7A153-83E2-45B4-BC50-7318EF2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5C74E-F95C-4CB8-82CA-9F7A9E3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8711B-DBFE-4EDF-95F4-B299119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37D4B-D3FF-42FB-911F-6839F59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7B9-1765-4733-ADAA-D6DFE5C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787F7-0125-4916-90DF-93BAA7DB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32422-33A3-4030-A05E-8CB2EC6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41B1A-323C-4A24-A729-203BBBC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58197-4B89-46A0-B3E9-FE3083B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A24F5-B135-4D84-AD3D-0DD7088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F13BE-9A2F-4094-8D86-CE6A6806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A7320-0366-4964-BEB3-13D41E86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A5520-3D0B-4C90-A34B-2D4ACF1F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EAAD1-941D-439E-9ECD-12D7971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21F5B-C727-4AAA-83E0-00B89B0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FDC8-38E8-4BCC-8A97-5A3B4FD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1C9C4-DFA3-4F8F-9D27-CE17989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3A518-7BFA-455C-AF05-F6B4917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2D9DB9-C903-49E5-8C28-37B107D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22647-88D0-4A57-BB2D-A61024D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47575-1A3C-40EF-836F-790496A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32FBC-CD67-4CDF-A9D4-174356B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DA976-A590-4317-B432-84AA99BF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D2EE2-A1A5-4FE1-83F0-28C8969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D74A8-8DE1-4A48-B342-685140A3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34F23-8CB2-487D-B1CF-0B7D1789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4E1-0025-488F-9506-4D66A343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3362C-94E9-412F-AEAA-7FAB512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8F24E-618A-4AC1-A8C3-7503BDA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B5BDD-D7D3-4132-AE87-6B4DFEE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65739-2D62-4DC7-AFBE-EC874F5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4D0ED-7FF5-4903-A607-EC5E957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2000D-D049-4B23-A583-B1A5CA3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3C447-C4E1-4AD5-8613-0DBD8FC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B38B9-63EE-4214-831B-14A4956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C6937-D645-4715-B79B-3BB1C2D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DE627-E9A6-4E5C-9865-C3E3DE6C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4CE-54D1-4CB4-840F-1F51D963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5975D-1855-4F50-B8A6-CB992992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5C7F-FA5C-4C99-BDEC-489BF53C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19CC-026E-41D1-86B0-828B595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66FD-1FB9-4F0F-9FD2-646E324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0AFB-52DE-4158-B48D-33A30C3C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27CD-0B3F-4C5E-BCC1-A6EE2D6F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0D2-77A5-4258-92D5-23CF512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BA25-DCE2-4FA4-BE77-6F946CC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0277-0ED7-40BB-A166-D3BE686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4305-FA10-4BEF-AF67-5F184DF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968A-6634-4A2A-8589-779E870D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7A66-9443-4CAC-882B-33BD44B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6989-4237-4D7C-9B48-05F8B442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443B-0BE2-4459-B66A-D0AFDBFC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53A6B-2171-43A2-BF52-34064184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37662-6D51-4F5D-AC55-85B0452C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63B6D-B7E9-4364-81D1-F49EF3F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048-7A6F-4A88-B661-542BB7A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DFF43-241B-4F1B-8BEE-CED2220E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75EED-CB21-43F0-92F5-CE3293F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A6F53-0AC0-48AD-A5FC-30FD59E2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41EA6-8EE2-4481-8480-D8344FC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B6105-0E43-45C5-9C54-60676A3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71D17-0A14-41E0-A892-95E9328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2D8A7-72FD-4B45-95A0-9C6FDB1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E85DD-2029-46B5-A6E1-CF4EA8E0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C9100-412D-4115-AAE1-15233831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CFC2-2603-4B47-AAC8-51C22EDB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E2A-5CB8-4B52-80FA-4C3461C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3516-E284-4574-8277-B5195095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D414B-CD73-49C5-856F-A2538C16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1D55-1818-4D08-A0B1-DE0964A8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9215-5D3C-4969-B322-C0805F1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606F-06CB-4A90-89D6-8110E22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0928-801A-4129-B27E-1DFEBC2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4891-B12D-4EF4-88D8-B89684F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7C89-E0E6-4A1B-906C-F208C9F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4426E-0C6A-4979-A0BD-DCF8F23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8077-46BE-4538-974C-EFC18E0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A90-143D-421C-A9D2-B92A1CD8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2D70-F8D3-4682-AE37-C2F01F0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7C2A-CEB6-41DC-8FF0-883A886E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A637-2513-4913-B4DC-287475E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D168-C20F-4780-8607-253CE3A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00AFA-13F3-4301-85DF-CD29EB5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DB71-1989-4B94-813F-650E776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1DAA-1376-4E1C-99EC-5CD44E5C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3A6B-5E16-4920-BE71-7A14797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77F0-D760-4048-A8F2-BCEC037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8F7F-2EF7-4AC5-B06A-8CB6A62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83C-253D-4CDC-810E-5CB87EC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CCB70-4CD0-4B74-87A6-2F87DC1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4063-9E29-424C-B875-96F043D1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2DAD-2762-4FEF-8A76-134E640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8522-55D4-4154-B165-046DD919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57A7-512C-48D5-AC77-A21ED49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6F62-4EB8-4FB1-94CD-E6CE48C6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D9D2D-7723-4F35-8448-B3FC1B4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EB7E-7910-422A-822A-E17D23F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76B6-ED48-4B45-9D1B-4C5CD58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C4721-BDB2-47F6-B4DA-CA5D5CE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768-3A74-41DA-8635-4C518F1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DAF5-A8F3-4F69-8A36-F9885E7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10BD-5211-464E-9344-2B9A21B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77A3-1E7A-44FE-8FC3-D64179E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E9FD-7F1C-497D-ADB0-069280B0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A476-8099-4F59-A51A-2F5F9F2F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E93D-D4EE-4788-9E89-C6E66AA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EF94-C543-4F9A-95D1-740D2907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0CD5-D17A-441B-BE55-4136E1CE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2D3B-88CA-42EF-9E62-3BC6FA00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9BFB6-B5B1-4DE2-819B-7DEB18E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F0C-0BD8-4D32-AE55-36503F1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40BA-4F8B-45F3-A41B-8815AFB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D1128-3534-4E06-B05A-EB3EB47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510C1-2D7B-4CC9-B15F-E9420A0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931E-9776-4880-AC58-3FB3C9E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4A5B9-1759-499D-8EA3-3DB6B4E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958E-7EC6-41D5-B1DA-2DA54B21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837F4-9B25-44D7-8619-0AA5DB6C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4F7F6-42BF-41F5-90A6-1B58F645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FAC5D-AE63-4300-AA64-017F17AF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15EE-0F07-4B18-8752-4B05D820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F0F-2E4B-47F6-A0A7-6EED811AC9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F08-94EC-4A38-82A8-895250183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41C-1717-420F-8F7B-A56704032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8ADD-7730-4082-B288-F2BFB4B41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F23F-9C5F-46D5-8128-666C74A5B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B17-D443-4320-AE18-8C141999D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3A6-A462-4A49-B280-44614D5D4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4E3F-7E71-4BA7-BEAD-893BFE054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364-C8FE-4101-A65B-E98FC1FFA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9A32-2A5A-494E-A5A4-71DBC5B83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3CF-679A-445A-8A9C-324D9FD779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B49-60E8-41B6-AD31-2473D7375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82D2-5183-4E35-A7BC-2AA3EA1DD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EF8-0C45-4710-94CE-098B25DBC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2BB-3688-4456-88D3-9EFECC37F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71F-076A-4A6A-8A01-A30ECAD4C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B46-E932-4C4E-A8AB-144AE55EC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EE1E-E017-4789-AD10-69539DDDA0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B87-6349-4B1B-996E-1586BA135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744-863F-4EA4-8729-3DD700FD1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37E-8A00-43A9-8607-3269EF3098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4A4-A098-4FA7-941E-9AC898561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0A3-8ACE-47F7-B81A-309B3CB31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055-E5B3-4B09-8062-593439284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643-C1B2-40F3-BBB2-92D6B650F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ABEB-F13F-423F-8606-74DCB5BFB4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131-7954-4D24-9FA3-CEF8EF42A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D95-7751-4086-B4CD-4D691E6FA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CB7C-8498-4ACE-BC65-4FDC4F928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0B8-04B3-4A27-B4A5-E8EFDFC3E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22B-7C00-4F64-88C7-9601D9C1C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6A3-4F57-4879-9AFF-9099B2852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C101-5191-410D-98DA-FC490A059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0F4F-50BB-4DBC-95C7-18A4C5B89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B028-C425-4A0C-9F73-9A183276B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3AD-07AD-48CF-BE89-37C17D74C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D85-2F1D-4554-A5EA-9E853A40F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32B-C322-4341-8839-E9586BEE9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9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4114"/>
          <p:cNvPicPr/>
          <p:nvPr/>
        </p:nvPicPr>
        <p:blipFill>
          <a:blip r:embed="rId1"/>
          <a:stretch/>
        </p:blipFill>
        <p:spPr>
          <a:xfrm>
            <a:off x="258840" y="2357280"/>
            <a:ext cx="844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9633" descr=""/>
          <p:cNvPicPr/>
          <p:nvPr/>
        </p:nvPicPr>
        <p:blipFill>
          <a:blip r:embed="rId1"/>
          <a:stretch/>
        </p:blipFill>
        <p:spPr>
          <a:xfrm>
            <a:off x="399960" y="1376280"/>
            <a:ext cx="8344080" cy="4105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539640" y="2502000"/>
            <a:ext cx="5327640" cy="504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468360" y="3151080"/>
            <a:ext cx="5327640" cy="505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539640" y="3780000"/>
            <a:ext cx="5327640" cy="504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468360" y="4384800"/>
            <a:ext cx="8351640" cy="504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611280" y="4994280"/>
            <a:ext cx="83534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380880" y="857160"/>
            <a:ext cx="8382240" cy="55245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539640" y="1954080"/>
            <a:ext cx="8425080" cy="279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8425080" cy="279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468360" y="2708280"/>
            <a:ext cx="8424720" cy="279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8424720" cy="279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468360" y="5300640"/>
            <a:ext cx="8424720" cy="2793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468360" y="5670720"/>
            <a:ext cx="8424720" cy="2793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8"/>
          <a:stretch/>
        </p:blipFill>
        <p:spPr>
          <a:xfrm>
            <a:off x="468360" y="6040440"/>
            <a:ext cx="8424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57040" y="1176480"/>
            <a:ext cx="8629920" cy="4505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451640" y="1628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859280" y="2637000"/>
            <a:ext cx="360360" cy="576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308720" y="2575080"/>
            <a:ext cx="360360" cy="576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7596360" y="3573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7648560" y="32511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4716360" y="3860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1835280" y="48402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2978280" y="4508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3995640" y="4653000"/>
            <a:ext cx="792360" cy="27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5292720" y="54738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5283360" y="514836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9410" descr=""/>
          <p:cNvPicPr/>
          <p:nvPr/>
        </p:nvPicPr>
        <p:blipFill>
          <a:blip r:embed="rId1"/>
          <a:stretch/>
        </p:blipFill>
        <p:spPr>
          <a:xfrm>
            <a:off x="390600" y="957240"/>
            <a:ext cx="8362800" cy="4943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2916360" y="1341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2916360" y="1700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3924360" y="1700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6"/>
          <a:stretch/>
        </p:blipFill>
        <p:spPr>
          <a:xfrm>
            <a:off x="3203640" y="2079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7"/>
          <a:stretch/>
        </p:blipFill>
        <p:spPr>
          <a:xfrm>
            <a:off x="4140360" y="2133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8"/>
          <a:stretch/>
        </p:blipFill>
        <p:spPr>
          <a:xfrm>
            <a:off x="4932360" y="208908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9"/>
          <a:stretch/>
        </p:blipFill>
        <p:spPr>
          <a:xfrm>
            <a:off x="1692360" y="286236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0"/>
          <a:stretch/>
        </p:blipFill>
        <p:spPr>
          <a:xfrm>
            <a:off x="5857920" y="285264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1"/>
          <a:stretch/>
        </p:blipFill>
        <p:spPr>
          <a:xfrm>
            <a:off x="1908000" y="350028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2"/>
          <a:stretch/>
        </p:blipFill>
        <p:spPr>
          <a:xfrm>
            <a:off x="5651640" y="3519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3"/>
          <a:stretch/>
        </p:blipFill>
        <p:spPr>
          <a:xfrm>
            <a:off x="4716360" y="41497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4"/>
          <a:stretch/>
        </p:blipFill>
        <p:spPr>
          <a:xfrm>
            <a:off x="6804000" y="4149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5"/>
          <a:stretch/>
        </p:blipFill>
        <p:spPr>
          <a:xfrm>
            <a:off x="971640" y="4797360"/>
            <a:ext cx="720720" cy="5047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6"/>
          <a:stretch/>
        </p:blipFill>
        <p:spPr>
          <a:xfrm>
            <a:off x="2411280" y="478800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7"/>
          <a:stretch/>
        </p:blipFill>
        <p:spPr>
          <a:xfrm>
            <a:off x="2268360" y="544500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8"/>
          <a:stretch/>
        </p:blipFill>
        <p:spPr>
          <a:xfrm>
            <a:off x="5435640" y="5383080"/>
            <a:ext cx="503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58375"/>
          <p:cNvGrpSpPr/>
          <p:nvPr/>
        </p:nvGrpSpPr>
        <p:grpSpPr>
          <a:xfrm>
            <a:off x="237960" y="1197000"/>
            <a:ext cx="8682120" cy="4900680"/>
            <a:chOff x="237960" y="1197000"/>
            <a:chExt cx="8682120" cy="4900680"/>
          </a:xfrm>
        </p:grpSpPr>
        <p:pic>
          <p:nvPicPr>
            <p:cNvPr id="992" name="图片 58373" descr=""/>
            <p:cNvPicPr/>
            <p:nvPr/>
          </p:nvPicPr>
          <p:blipFill>
            <a:blip r:embed="rId1"/>
            <a:stretch/>
          </p:blipFill>
          <p:spPr>
            <a:xfrm>
              <a:off x="237960" y="1197000"/>
              <a:ext cx="86680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图片 58374" descr=""/>
            <p:cNvPicPr/>
            <p:nvPr/>
          </p:nvPicPr>
          <p:blipFill>
            <a:blip r:embed="rId2"/>
            <a:stretch/>
          </p:blipFill>
          <p:spPr>
            <a:xfrm>
              <a:off x="309600" y="1916280"/>
              <a:ext cx="8610480" cy="418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4" name="Picture 1" descr=""/>
          <p:cNvPicPr/>
          <p:nvPr/>
        </p:nvPicPr>
        <p:blipFill>
          <a:blip r:embed="rId3"/>
          <a:stretch/>
        </p:blipFill>
        <p:spPr>
          <a:xfrm>
            <a:off x="8244000" y="1557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4"/>
          <a:stretch/>
        </p:blipFill>
        <p:spPr>
          <a:xfrm>
            <a:off x="8317080" y="20080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5"/>
          <a:stretch/>
        </p:blipFill>
        <p:spPr>
          <a:xfrm>
            <a:off x="8317080" y="2502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6"/>
          <a:stretch/>
        </p:blipFill>
        <p:spPr>
          <a:xfrm>
            <a:off x="8244000" y="2862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7"/>
          <a:stretch/>
        </p:blipFill>
        <p:spPr>
          <a:xfrm>
            <a:off x="8317080" y="32320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8"/>
          <a:stretch/>
        </p:blipFill>
        <p:spPr>
          <a:xfrm>
            <a:off x="4284720" y="4005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9"/>
          <a:stretch/>
        </p:blipFill>
        <p:spPr>
          <a:xfrm>
            <a:off x="5867280" y="508464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图片 57352" descr=""/>
          <p:cNvPicPr/>
          <p:nvPr/>
        </p:nvPicPr>
        <p:blipFill>
          <a:blip r:embed="rId1"/>
          <a:stretch/>
        </p:blipFill>
        <p:spPr>
          <a:xfrm>
            <a:off x="490680" y="880920"/>
            <a:ext cx="8162640" cy="50961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2"/>
          <a:stretch/>
        </p:blipFill>
        <p:spPr>
          <a:xfrm>
            <a:off x="8028000" y="990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3"/>
          <a:stretch/>
        </p:blipFill>
        <p:spPr>
          <a:xfrm>
            <a:off x="7524720" y="1989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4"/>
          <a:stretch/>
        </p:blipFill>
        <p:spPr>
          <a:xfrm>
            <a:off x="6732720" y="2843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5"/>
          <a:stretch/>
        </p:blipFill>
        <p:spPr>
          <a:xfrm>
            <a:off x="1619280" y="5454720"/>
            <a:ext cx="36036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6"/>
          <a:stretch/>
        </p:blipFill>
        <p:spPr>
          <a:xfrm>
            <a:off x="3419640" y="5445000"/>
            <a:ext cx="360360" cy="567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7"/>
          <a:stretch/>
        </p:blipFill>
        <p:spPr>
          <a:xfrm>
            <a:off x="5219640" y="5445000"/>
            <a:ext cx="360360" cy="567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8"/>
          <a:stretch/>
        </p:blipFill>
        <p:spPr>
          <a:xfrm>
            <a:off x="6948360" y="5445000"/>
            <a:ext cx="10796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56324" descr=""/>
          <p:cNvPicPr/>
          <p:nvPr/>
        </p:nvPicPr>
        <p:blipFill>
          <a:blip r:embed="rId1"/>
          <a:stretch/>
        </p:blipFill>
        <p:spPr>
          <a:xfrm>
            <a:off x="471600" y="1881360"/>
            <a:ext cx="8200800" cy="3095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1077840" y="2421000"/>
            <a:ext cx="973080" cy="279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2916360" y="2421000"/>
            <a:ext cx="973080" cy="279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4"/>
          <a:stretch/>
        </p:blipFill>
        <p:spPr>
          <a:xfrm>
            <a:off x="4797360" y="2421000"/>
            <a:ext cx="973080" cy="279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5"/>
          <a:stretch/>
        </p:blipFill>
        <p:spPr>
          <a:xfrm>
            <a:off x="6434280" y="2421000"/>
            <a:ext cx="973080" cy="279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6"/>
          <a:stretch/>
        </p:blipFill>
        <p:spPr>
          <a:xfrm>
            <a:off x="1312920" y="2924280"/>
            <a:ext cx="973080" cy="5047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7"/>
          <a:stretch/>
        </p:blipFill>
        <p:spPr>
          <a:xfrm>
            <a:off x="3174840" y="2943360"/>
            <a:ext cx="973440" cy="504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8"/>
          <a:stretch/>
        </p:blipFill>
        <p:spPr>
          <a:xfrm>
            <a:off x="5003640" y="2924280"/>
            <a:ext cx="973440" cy="5047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9"/>
          <a:stretch/>
        </p:blipFill>
        <p:spPr>
          <a:xfrm>
            <a:off x="6804000" y="2943360"/>
            <a:ext cx="973080" cy="504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0"/>
          <a:stretch/>
        </p:blipFill>
        <p:spPr>
          <a:xfrm>
            <a:off x="755640" y="4264200"/>
            <a:ext cx="1655640" cy="279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1"/>
          <a:stretch/>
        </p:blipFill>
        <p:spPr>
          <a:xfrm>
            <a:off x="755640" y="4633920"/>
            <a:ext cx="1655640" cy="2793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2"/>
          <a:stretch/>
        </p:blipFill>
        <p:spPr>
          <a:xfrm>
            <a:off x="3492360" y="4273560"/>
            <a:ext cx="1656000" cy="279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3"/>
          <a:stretch/>
        </p:blipFill>
        <p:spPr>
          <a:xfrm>
            <a:off x="3492360" y="4643280"/>
            <a:ext cx="1656000" cy="279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4"/>
          <a:stretch/>
        </p:blipFill>
        <p:spPr>
          <a:xfrm>
            <a:off x="6227640" y="4273560"/>
            <a:ext cx="165600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5"/>
          <a:stretch/>
        </p:blipFill>
        <p:spPr>
          <a:xfrm>
            <a:off x="6227640" y="4643280"/>
            <a:ext cx="165600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55300" descr=""/>
          <p:cNvPicPr/>
          <p:nvPr/>
        </p:nvPicPr>
        <p:blipFill>
          <a:blip r:embed="rId1"/>
          <a:stretch/>
        </p:blipFill>
        <p:spPr>
          <a:xfrm>
            <a:off x="514440" y="995400"/>
            <a:ext cx="8115120" cy="4867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611280" y="3836880"/>
            <a:ext cx="1800000" cy="53820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55303" descr=""/>
          <p:cNvPicPr/>
          <p:nvPr/>
        </p:nvPicPr>
        <p:blipFill>
          <a:blip r:embed="rId3"/>
          <a:stretch/>
        </p:blipFill>
        <p:spPr>
          <a:xfrm>
            <a:off x="998640" y="1969920"/>
            <a:ext cx="7553160" cy="838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39640" y="4446720"/>
            <a:ext cx="1800360" cy="538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539640" y="5084640"/>
            <a:ext cx="1800360" cy="538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1800000" cy="538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3059280" y="4446720"/>
            <a:ext cx="1800000" cy="538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2987640" y="5094360"/>
            <a:ext cx="1800360" cy="538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5508720" y="3860640"/>
            <a:ext cx="2879640" cy="538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5580000" y="4446720"/>
            <a:ext cx="2879640" cy="538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5580000" y="5094360"/>
            <a:ext cx="28796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4276" descr=""/>
          <p:cNvPicPr/>
          <p:nvPr/>
        </p:nvPicPr>
        <p:blipFill>
          <a:blip r:embed="rId1"/>
          <a:stretch/>
        </p:blipFill>
        <p:spPr>
          <a:xfrm>
            <a:off x="247680" y="2004840"/>
            <a:ext cx="8648640" cy="2848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6624720" cy="27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3519360"/>
            <a:ext cx="6624720" cy="557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662472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2231" descr=""/>
          <p:cNvPicPr/>
          <p:nvPr/>
        </p:nvPicPr>
        <p:blipFill>
          <a:blip r:embed="rId1"/>
          <a:stretch/>
        </p:blipFill>
        <p:spPr>
          <a:xfrm>
            <a:off x="385920" y="907920"/>
            <a:ext cx="8372160" cy="227664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2232" descr=""/>
          <p:cNvPicPr/>
          <p:nvPr/>
        </p:nvPicPr>
        <p:blipFill>
          <a:blip r:embed="rId2"/>
          <a:stretch/>
        </p:blipFill>
        <p:spPr>
          <a:xfrm>
            <a:off x="390600" y="3276720"/>
            <a:ext cx="8362800" cy="1952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539640" y="1657440"/>
            <a:ext cx="5761080" cy="279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5761080" cy="279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39640" y="2421000"/>
            <a:ext cx="5761080" cy="279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395280" y="3716280"/>
            <a:ext cx="2160720" cy="504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2700360" y="3716280"/>
            <a:ext cx="2735280" cy="504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8"/>
          <a:stretch/>
        </p:blipFill>
        <p:spPr>
          <a:xfrm>
            <a:off x="395280" y="4330800"/>
            <a:ext cx="1655640" cy="504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9"/>
          <a:stretch/>
        </p:blipFill>
        <p:spPr>
          <a:xfrm>
            <a:off x="2195640" y="4365720"/>
            <a:ext cx="3240000" cy="504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0"/>
          <a:stretch/>
        </p:blipFill>
        <p:spPr>
          <a:xfrm>
            <a:off x="539640" y="4941720"/>
            <a:ext cx="504036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43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